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E18-17C6-475D-93D2-680BD39D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9D9-CC02-434A-88C5-97C4C040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5B9-31A9-4656-AD5B-D1C1C69C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C1D-4123-4D48-BC72-95897773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0AA-CE99-4A30-A436-0C0F01A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7D1-4AED-45D4-A792-09C5B13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3A0-374F-4F4B-B6C1-694CCF3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E40-3BA1-4742-A427-A11C12F9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AF6-58B1-4AD8-BBAB-0D78976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21C-C5AA-4102-9AD3-29A5270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01F-C770-4D79-BFD1-B8F26DF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9E0-35F1-4901-A0C1-A4151DB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E225-A331-46E4-B036-912DBD6A40B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y of National Education within the Framework of Qualificatio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Nov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Mustafa AKS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l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afaaksoy@meb.gov.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libri"/>
              </a:rPr>
              <a:t>LLL and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0280" cy="97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Lifelong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6 Basic Princi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roviding opportunities for accessing continui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investment in human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effective teaching and learning methods within the framework of L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ways to participate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the guiding and counselling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Improving LLL opportunities as learner-oriented as much a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97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uropean Qualific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nabling validity of formal and informal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uidance and Couns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ey compet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redit transfer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uro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lot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Calibri"/>
              </a:rPr>
              <a:t>Teaching Programmes</a:t>
            </a:r>
            <a:br>
              <a:rPr sz="3600"/>
            </a:br>
            <a:r>
              <a:rPr b="0" lang="tr-TR" sz="3600" spc="-1" strike="noStrike">
                <a:solidFill>
                  <a:srgbClr val="ffffff"/>
                </a:solidFill>
                <a:latin typeface="Calibri"/>
              </a:rPr>
              <a:t>(Enabling Acquisition of Key Qualifications, ECVE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90280"/>
            <a:ext cx="404028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odular Programmes in V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430360"/>
            <a:ext cx="404028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2002- continuing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Labour market need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ocational analysis (ISCO-8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ocational standard (ISCO-8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ducation standard (ISCED-9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odular training programme based on qual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7317 Train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60 area 226 Branch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790280"/>
            <a:ext cx="404172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Calibri"/>
              </a:rPr>
              <a:t>General Secondary Education Program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430360"/>
            <a:ext cx="404172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y Board of Educat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05 lesson programmes have been updated since 200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(Except Health Knowledge, National Security Knowledge, Democracy and Human Rights Training, Traffic and First A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Calibri"/>
              </a:rPr>
              <a:t>Teacher Qualifications-1-                                    2012 first quarter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Calibri"/>
              </a:rPr>
              <a:t>(Quality Assu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Primary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qualifications 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 basic, 31 sub-qualification and 133 performance indicatiors-November 200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fications for special fields (14 special fields and performance indicatiors-July 2008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anagement  (SE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-based vocational development (SE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General Secondary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urkish Language and Literature, History, Geography, English, Philosophy, Mathematics, Physics, Chemistry, Biology (put into effect in January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Physical Training, Art, Music, Religion and Ethics, Psychology, Health Knowledge, Foreign Language, Professional Teaching Knowledge fields (pending for approval of Bo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orporate and individual performance management (pilot is being implemen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chool-based vocational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Teacher Qualifications- 2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(Qaulity Assuranc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fields within the scope of METEM Project (Computer, Electric-Electronics, Automotive, Clothing / Ready-Made Clothing, Accomodation Management, Construction, Installment / Natural Gas, Child Development and Pedagogy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eld qualifications related to guidance and special education will be prepar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17 M Euros, teachers and managers have been trained on new teaching metho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tr-TR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th 24 M Euros, 194 shools have been equipped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4040280" cy="63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VET–Ope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Validity of Nonformal and Inform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700280"/>
            <a:ext cx="8229600" cy="370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L-1: In 1 occupational branch in each of 8 field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L-2: In 1 occupational branch in each of 7 fiel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tests in order to provide recognition of validity of prior learning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skill assesment centres in 7 fields in LLL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LLL Portal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Calibri"/>
              </a:rPr>
              <a:t>(Guidance and Counselling [MoNE-İŞKUR]-EUROPASS [VQA]-PLOTEUS Euroguidance [İŞKUR]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nonforma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gradua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-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egitim.gov.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 Diyagram" descr=""/>
          <p:cNvPicPr/>
          <p:nvPr/>
        </p:nvPicPr>
        <p:blipFill>
          <a:blip r:embed="rId1"/>
          <a:stretch/>
        </p:blipFill>
        <p:spPr>
          <a:xfrm>
            <a:off x="585720" y="1262160"/>
            <a:ext cx="8277120" cy="5175000"/>
          </a:xfrm>
          <a:prstGeom prst="rect">
            <a:avLst/>
          </a:prstGeom>
          <a:ln w="0">
            <a:noFill/>
          </a:ln>
        </p:spPr>
      </p:pic>
      <p:sp>
        <p:nvSpPr>
          <p:cNvPr id="66" name="6 Dikdörtgen"/>
          <p:cNvSpPr/>
          <p:nvPr/>
        </p:nvSpPr>
        <p:spPr>
          <a:xfrm>
            <a:off x="179280" y="333360"/>
            <a:ext cx="144000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ining Supply – Corporate -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5 Diyagram" descr=""/>
          <p:cNvPicPr/>
          <p:nvPr/>
        </p:nvPicPr>
        <p:blipFill>
          <a:blip r:embed="rId1"/>
          <a:stretch/>
        </p:blipFill>
        <p:spPr>
          <a:xfrm>
            <a:off x="622440" y="1122480"/>
            <a:ext cx="8283600" cy="5229000"/>
          </a:xfrm>
          <a:prstGeom prst="rect">
            <a:avLst/>
          </a:prstGeom>
          <a:ln w="0">
            <a:noFill/>
          </a:ln>
        </p:spPr>
      </p:pic>
      <p:sp>
        <p:nvSpPr>
          <p:cNvPr id="68" name="6 Dikdörtgen"/>
          <p:cNvSpPr/>
          <p:nvPr/>
        </p:nvSpPr>
        <p:spPr>
          <a:xfrm>
            <a:off x="250920" y="260280"/>
            <a:ext cx="14284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alibri"/>
              </a:rPr>
              <a:t>Training Demand (Corporate-Indivi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7:40:00Z</dcterms:created>
  <dc:creator>MEB-PKM</dc:creator>
  <dc:description/>
  <dc:language>en-US</dc:language>
  <cp:lastModifiedBy>MEB-PKM</cp:lastModifiedBy>
  <dcterms:modified xsi:type="dcterms:W3CDTF">2011-11-18T15:30:02Z</dcterms:modified>
  <cp:revision>49</cp:revision>
  <dc:subject/>
  <dc:title>Slayt 1</dc:title>
</cp:coreProperties>
</file>