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212C-144F-47A1-8A9E-772004FD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AB32-277C-4CD5-9380-4ADEEE13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866C-6848-490E-B4AF-6D9CDC7E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AA6-0A88-495A-9001-2F869D49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00E4-6CBA-4FFC-91CF-E124A92A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35A5-3BFD-4112-BB86-8390FD74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B47-0BE0-469A-A4BC-C6310B0D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59A6-59F9-496A-9F98-83F8A41D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6FFD-FE98-4ADD-9359-3F4EB955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4F0-D1DA-4E39-A0B4-F8A69DF7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883E-D0CF-45CC-927B-A0C0D98C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055-CD46-47E4-B6EC-46042449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753F-A92A-4F95-8836-716101F258AD}" type="datetime">
              <a:rPr b="0" lang="tr-T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B438-C18E-4E74-9DEF-301AD0CD3CD4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Slayt Numarası Yer Tutucusu"/>
          <p:cNvSpPr/>
          <p:nvPr/>
        </p:nvSpPr>
        <p:spPr>
          <a:xfrm>
            <a:off x="0" y="6492960"/>
            <a:ext cx="282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C7A7-BF31-4E95-81BF-7028EE912673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5 Metin kutusu"/>
          <p:cNvSpPr/>
          <p:nvPr/>
        </p:nvSpPr>
        <p:spPr>
          <a:xfrm>
            <a:off x="992160" y="2133720"/>
            <a:ext cx="7790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sleki Yeterlilik Kurumu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e Ulusal Yeterlilik Siste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hmet GÖZÜKÜÇÜ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sleki Yeterlilik Kuru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2 Kasım 2011, Antal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48880" y="691920"/>
            <a:ext cx="784692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Avrupa Eğitim Vakfı (ETF)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Hayat Boyu Öğrenme (HBÖ) için Türkiye Yeterlilikler Çerçevesinin (TYÇ) Uygulama Düzenlemeleri Çalıştay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unum Plan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1800" y="1214280"/>
            <a:ext cx="8518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  <a:ea typeface="Arial"/>
              </a:rPr>
              <a:t>MYK ve Ulusal Yeterlilik Siste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  <a:ea typeface="Arial"/>
              </a:rPr>
              <a:t>UYS’de ürünler, süreçler ve aktör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  <a:ea typeface="Arial"/>
              </a:rPr>
              <a:t>UYS’de Kalite Güvence Mekanizmas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  <a:ea typeface="Arial"/>
              </a:rPr>
              <a:t>Akredite Belgelendirme, Akredite Eğit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  <a:ea typeface="Arial"/>
              </a:rPr>
              <a:t>Türkiye Yeterlilikler Çerçeve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  <a:ea typeface="Arial"/>
              </a:rPr>
              <a:t>Önümüzdeki dönemde yapılacaklar, güçlük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3 Slayt Numarası Yer Tutucusu"/>
          <p:cNvSpPr/>
          <p:nvPr/>
        </p:nvSpPr>
        <p:spPr>
          <a:xfrm>
            <a:off x="0" y="649296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AC37-6F00-4BB4-89C8-E95B82A8E0D1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Amaç ve Kurulu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  <a:ea typeface="Tahoma"/>
              </a:rPr>
              <a:t>Mesleki Yeterlilik Kurumu (MYK), AB ile uyumlu Ulusal Yeterlilik Sistemini kurmak ve işletmek üzere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  <a:ea typeface="Tahoma"/>
              </a:rPr>
              <a:t>21 Eylül 2006 tarihli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  <a:ea typeface="Tahoma"/>
              </a:rPr>
              <a:t>ve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  <a:ea typeface="Tahoma"/>
              </a:rPr>
              <a:t>5544 sayılı Kanun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  <a:ea typeface="Tahoma"/>
              </a:rPr>
              <a:t>ile kurulmuştur. Çalışma ve Sosyal Güvenlik Bakanlığının ilgili kuruluşu olan MYK kamu tüzel kişiliğini haiz, idari ve mali özerkliğe sahip, özel bütçeli bir kamu kurumud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K’nın temel görevler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Ulusal Yeterlilik Çerçevesi’nin oluşturulması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Ulusal Meslek Standartları ve Ulusal Yeterliliklerin hazırlanması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Ölçme-değerlendirme ve belgelendirme sisteminin kurulup işletilmes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25406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3 Slayt Numarası Yer Tutucusu"/>
          <p:cNvSpPr/>
          <p:nvPr/>
        </p:nvSpPr>
        <p:spPr>
          <a:xfrm>
            <a:off x="0" y="649296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0405-4432-41E3-A8D8-F69AE9350C84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just"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Ulusal Yeterlilik Çerçevesi (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YÇ);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vrupa Yeterlilikler Çerçevesi ile uyumlu olacak şekilde tasarlanan; ilk, orta ve yüksek öğretim dahil, meslekî, genel ve akademik eğitim ve öğretim programları ve diğer öğrenme yolları ile kazanılan tüm yeterlilik esasları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just"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Ulusal meslekî yeterlilik sistemi (UMYS): Teknik ve meslekî eğitim standartlarının ve bu standartları temel alan yeterliliklerin geliştirilmesi, uygulanması ve bunlara ilişkin yetkilendirme, denetim, ölçme ve değerlendirme, belgelendirme ve sertifikalandırmaya ilişkin kural ve faaliyetleri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3 Slayt Numarası Yer Tutucusu"/>
          <p:cNvSpPr/>
          <p:nvPr/>
        </p:nvSpPr>
        <p:spPr>
          <a:xfrm>
            <a:off x="0" y="649296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2DAE-9527-4F1A-A4F9-218DBD256AE3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UYÇ ve UM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00160" y="112680"/>
          <a:ext cx="9482040" cy="6556320"/>
        </p:xfrm>
        <a:graphic>
          <a:graphicData uri="http://schemas.openxmlformats.org/drawingml/2006/table">
            <a:tbl>
              <a:tblPr/>
              <a:tblGrid>
                <a:gridCol w="1728720"/>
                <a:gridCol w="2784240"/>
                <a:gridCol w="2419560"/>
                <a:gridCol w="2549520"/>
              </a:tblGrid>
              <a:tr h="47484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ÜRÜNLER/ ÇIKTI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ÜREÇ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ÖR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LANICI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4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usal Meslek Standartları (UM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örevlendirme(Protoko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MS Taslağı Hazırl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ğrulama ve Yayıml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leki Yeterlilik Kurumu (MY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MS Hazırlama Kuruluşları (STK, Sosyal Taraflar, Kamu Kurumlar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terlilik Hazırlama Kuruluşlar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 Programı Hazırlayan Kurumlar (MEB,YÖ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İş Piyasası (İşveren/İşgör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 Dünyası (Eğitimciler/Öğrencil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usal Yeterlilikler (U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örevlendirme (Protoko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Y Taslağı Hazırl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ğrulama ve Yayıml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Y Hazırlama Kuruluşları (STK, Sosyal Taraflar, Eğitim ve Belgelendirme Kuruluşlar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gelendirme Kuruluşlar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 Programı Hazırlayan Kurumlar (MEB,YÖ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İş Piyasası (İşveren/İşgör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 Dünyası (Eğitimciler/Öğrencil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 rowSpan="2"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leki Yeterlilik Belgele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reditasy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tk.&amp; izle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gelendir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Ölçme Değ./Sınav Değerlendir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ÜRK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tk. Belgelendirme Kuruluşlar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reyl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İş Piyasas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 Akreditasy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 Sunu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ınav ve Değerlendir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tki. Eğitim Akr. Kuruluşlar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/Öğretim Kurumlar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/Öğr. Kurum&amp;Yetk. Ku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reyl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İş Piyasas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 ve Öğr. Programlar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Geliştir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B/Yüksek Öğretim Kurumlar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 ve Öğretim Kuruluşlar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36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ürkiye Yeterlilikler Çerçevesi (TYÇ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Çerçevenin Oluşturulmas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Çerçevenin İşletilme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YÇ Referansl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K Koordinasyonunda MEB, YÖK ve İlgili Diğer Paydaş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K , MEB, YÖK, İş Piyasas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gelendirme Kuruluşlar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reditasyon Kuruluşlar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/Öğretim Kuruluşlar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Öğrenenler/Öğrenci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4" name=""/>
          <p:cNvGrpSpPr/>
          <p:nvPr/>
        </p:nvGrpSpPr>
        <p:grpSpPr>
          <a:xfrm>
            <a:off x="1456920" y="85320"/>
            <a:ext cx="321120" cy="720"/>
            <a:chOff x="1456920" y="85320"/>
            <a:chExt cx="321120" cy="720"/>
          </a:xfrm>
        </p:grpSpPr>
        <p:cxnSp>
          <p:nvCxnSpPr>
            <p:cNvPr id="55" name="AutoShape 14"/>
            <p:cNvCxnSpPr/>
            <p:nvPr/>
          </p:nvCxnSpPr>
          <p:spPr>
            <a:xfrm>
              <a:off x="1456920" y="85320"/>
              <a:ext cx="321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" name=""/>
            <p:cNvSpPr txBox="1"/>
            <p:nvPr/>
          </p:nvSpPr>
          <p:spPr>
            <a:xfrm>
              <a:off x="1456920" y="85320"/>
              <a:ext cx="320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456920" y="88560"/>
            <a:ext cx="321120" cy="720"/>
            <a:chOff x="1456920" y="88560"/>
            <a:chExt cx="321120" cy="720"/>
          </a:xfrm>
        </p:grpSpPr>
        <p:cxnSp>
          <p:nvCxnSpPr>
            <p:cNvPr id="58" name="AutoShape 13"/>
            <p:cNvCxnSpPr/>
            <p:nvPr/>
          </p:nvCxnSpPr>
          <p:spPr>
            <a:xfrm>
              <a:off x="1456920" y="88560"/>
              <a:ext cx="321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" name=""/>
            <p:cNvSpPr txBox="1"/>
            <p:nvPr/>
          </p:nvSpPr>
          <p:spPr>
            <a:xfrm>
              <a:off x="1456920" y="88560"/>
              <a:ext cx="320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456920" y="91800"/>
            <a:ext cx="321120" cy="720"/>
            <a:chOff x="1456920" y="91800"/>
            <a:chExt cx="321120" cy="720"/>
          </a:xfrm>
        </p:grpSpPr>
        <p:cxnSp>
          <p:nvCxnSpPr>
            <p:cNvPr id="61" name="AutoShape 12"/>
            <p:cNvCxnSpPr/>
            <p:nvPr/>
          </p:nvCxnSpPr>
          <p:spPr>
            <a:xfrm>
              <a:off x="1456920" y="91800"/>
              <a:ext cx="321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" name=""/>
            <p:cNvSpPr txBox="1"/>
            <p:nvPr/>
          </p:nvSpPr>
          <p:spPr>
            <a:xfrm>
              <a:off x="1456920" y="91800"/>
              <a:ext cx="320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UMYS’de Kalite Güv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UMS ve UY’lerin geliştirilmesi, doğrulanması, onayında KG MYK sorumluluğu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elgelendirmede ISO/IEC 17024 standardına göre TÜRKAK akreditasyonu önşartı ve MYK’nın ilave KG önlemle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Akredite Eğitim ve Öğretimde MYK tarafından yetkilendirilen Eğitim Akreditasyon Kuruluşlar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Slayt Numarası Yer Tutucusu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4F89-3103-4D5E-A47D-B262C5C6F92C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Belgelendir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60160" y="1341000"/>
            <a:ext cx="89154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HK/665’le birlikte “Meslekî Yeterlilik Belgesi: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 Meslekî Yeterlilik Kurumu tarafından onaylanmış, bireyin bilgi, beceri ve yetkinliğini ifade eden belgeler” şeklinde tanımlanmışt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aha önce yalnızca akredite (ISO/IEC 17024) belgelendirme kuruluşlarının yapacağı ölçme-değerlendirme ile belgeye erişim mümkün iken, yeni düzenlemeyle oluşturulacak KG yapısı çerçevesinde akredite eğitim ve öğretim kuruluşlarından mezun olanlar da doğrudan Mesleki Yeterlilik Belgesi alabilecekt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Slayt Numarası Yer Tutucusu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464F-F590-4215-8107-692A77BEDA5E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24160" y="4365720"/>
          <a:ext cx="7038720" cy="1706400"/>
        </p:xfrm>
        <a:graphic>
          <a:graphicData uri="http://schemas.openxmlformats.org/drawingml/2006/table">
            <a:tbl>
              <a:tblPr/>
              <a:tblGrid>
                <a:gridCol w="1296720"/>
                <a:gridCol w="3098880"/>
                <a:gridCol w="2643120"/>
              </a:tblGrid>
              <a:tr h="973800">
                <a:tc rowSpan="2"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sleki Yeterlilik Belgele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reditas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tkilendirme &amp; izle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lgelendir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Ölçme Değ./ Sınav Değerlendirm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ÜRK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Y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tk. Belgelendirme Kuruluşlar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 Akreditas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 Sunu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ınav ve Değerlendir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tki. Eğitim Akr. Kuruluşlar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/Öğretim Kurumlar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ğitim/Öğr. Kurum&amp;Yetk. Ku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2 İçerik Yer Tutucusu"/>
          <p:cNvSpPr/>
          <p:nvPr/>
        </p:nvSpPr>
        <p:spPr>
          <a:xfrm>
            <a:off x="495360" y="1579680"/>
            <a:ext cx="8915400" cy="42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Muhtelif strateji belgelerinde ve MYK Kanununda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Türkiye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eterlilikler Çerçevesinin oluşturulması, geliştirilmesi ve güncelliğinin korunması, AYÇ’ye referanslanması işlemlerinin MEB, YÖK ve ilgili diğer paydaşlarla birlikte MYK koordinasyonunda yürütüleceği belirtilmekted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TYÇ’nin  ülkemizdeki </a:t>
            </a:r>
            <a:r>
              <a:rPr b="1" lang="tr-TR" sz="2200" spc="-1" strike="noStrike">
                <a:solidFill>
                  <a:srgbClr val="000000"/>
                </a:solidFill>
                <a:latin typeface="Calibri"/>
              </a:rPr>
              <a:t>tüm yeterlilikleri içeren bütünleşik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8 seviyeli yapıda geliştirilmesi konusunda paydaşlar arasında mutabakat vardır. MYK Kanununda Kalite güvencesi sağlanmış tüm yeterliliklerin Ulusal Yeterlilik Çerçevesine dahil edileceği belirtilmektedi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UYÇ Hazırlama Komisyonu inisiyatifinde çalışmalar sürdürülmekted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 Başlık"/>
          <p:cNvSpPr/>
          <p:nvPr/>
        </p:nvSpPr>
        <p:spPr>
          <a:xfrm>
            <a:off x="495360" y="549360"/>
            <a:ext cx="89154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Türkiye Yeterlilikler Çerçevesi (TYÇ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19000" y="3786120"/>
            <a:ext cx="8420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5400" spc="-1" strike="noStrike">
                <a:solidFill>
                  <a:srgbClr val="000000"/>
                </a:solidFill>
                <a:latin typeface="Calibri"/>
              </a:rPr>
              <a:t>Saygılarıml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1857240" y="1071720"/>
            <a:ext cx="6120000" cy="2786040"/>
          </a:xfrm>
          <a:prstGeom prst="rect">
            <a:avLst/>
          </a:prstGeom>
          <a:ln w="0">
            <a:noFill/>
          </a:ln>
        </p:spPr>
      </p:pic>
      <p:sp>
        <p:nvSpPr>
          <p:cNvPr id="74" name="3 Slayt Numarası Yer Tutucusu"/>
          <p:cNvSpPr/>
          <p:nvPr/>
        </p:nvSpPr>
        <p:spPr>
          <a:xfrm>
            <a:off x="0" y="649296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1647-D1F4-43ED-900F-9C3B02A8F6AA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8:13:19Z</dcterms:created>
  <dc:creator>Yaprak AKÇAY</dc:creator>
  <dc:description/>
  <dc:language>en-US</dc:language>
  <cp:lastModifiedBy>Ahmet GÖZÜKÜÇÜK</cp:lastModifiedBy>
  <dcterms:modified xsi:type="dcterms:W3CDTF">2011-11-21T08:16:28Z</dcterms:modified>
  <cp:revision>267</cp:revision>
  <dc:subject/>
  <dc:title>Slayt 1</dc:title>
</cp:coreProperties>
</file>