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415-0B6F-4D92-92B2-424F1A8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BAF-CEB7-4764-B074-7FB36FB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B54-A429-45EF-A5BF-4F7B08CE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C8E-ABC8-4A50-8009-A8A4B300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598-1851-4707-85F6-CD49308E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C8B-0CC7-4C68-BF02-562B53D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4683-7240-443A-89FF-70355D0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223E-21B5-4AE5-9522-9365754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07C2-9742-44B6-BAF0-4F64397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A984-233F-4489-B816-A6959BA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4063-200C-4885-A0CD-6C4AC4A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1B4-3FC3-4912-88C6-A3E4496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609-1A4C-4D37-B930-DCE562C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F9D-E136-4925-BC0E-798ABCD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B5F5-BEF3-418F-B918-85009A6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195-2429-425F-820B-AE54AB3B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1948-A688-49DB-A6E6-53AA4CCC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F6B-6B27-4C80-85C5-5864513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58B-DC24-4AF5-A62F-15D375D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EEC-70D0-43F3-9187-9836938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7EA-E822-480A-A50B-052889B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B37-D4AA-49D5-8A7B-AAF88367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FAD-FFF9-4C71-922B-7EF11CF5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046-9CB5-4445-A405-DC155BE7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E712-7B22-4E57-B06D-3E96FA43E7D8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86E-5BE0-459A-A901-8E3B68CD8B3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284-0D8E-49AF-B865-46DE49C7EB07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8B6F-9BDA-4391-A03E-7DCFC78DA4BA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etf.europa.eu/web.ns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6920" cy="9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Avrupa Eğitim Vakfı (ETF)</a:t>
            </a:r>
            <a:br>
              <a:rPr sz="2000"/>
            </a:br>
            <a:r>
              <a:rPr b="0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Hayat Boyu Öğrenme (HBÖ) için Türkiye Yeterlilikler Çerçevesinin (TYÇ) Uygulama Düzenlemeleri Çalıştayı 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198864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  <a:ea typeface="Arial"/>
              </a:rPr>
              <a:t>TÜRKİYE YÜKSEKÖĞRETİM YETERLİLİKLER ÇERÇEVESİ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  <a:ea typeface="Arial"/>
              </a:rPr>
              <a:t>(TYYÇ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Prof. Dr. Oğuz Bora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İstanbul Ticaret Üniversitesi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22-24 Kasım 2011, Antalya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A76-A75B-4638-B5B5-5ECDEA9B6B4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92" name="Grup 6"/>
          <p:cNvGrpSpPr/>
          <p:nvPr/>
        </p:nvGrpSpPr>
        <p:grpSpPr>
          <a:xfrm>
            <a:off x="0" y="0"/>
            <a:ext cx="9144000" cy="544680"/>
            <a:chOff x="0" y="0"/>
            <a:chExt cx="9144000" cy="544680"/>
          </a:xfrm>
        </p:grpSpPr>
        <p:pic>
          <p:nvPicPr>
            <p:cNvPr id="93" name="Picture 16" descr="flag_guide-1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5528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C:\Users\pc\Pictures\türk bayrağı.jpg"/>
            <p:cNvPicPr/>
            <p:nvPr/>
          </p:nvPicPr>
          <p:blipFill>
            <a:blip r:embed="rId2"/>
            <a:stretch/>
          </p:blipFill>
          <p:spPr>
            <a:xfrm>
              <a:off x="8385840" y="0"/>
              <a:ext cx="758160" cy="53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Resim 14" descr="ETF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280" y="6840"/>
              <a:ext cx="116352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Resim 15" descr="http://tyyc.yok.gov.tr/img/amblem.jpg"/>
            <p:cNvPicPr/>
            <p:nvPr/>
          </p:nvPicPr>
          <p:blipFill>
            <a:blip r:embed="rId5"/>
            <a:stretch/>
          </p:blipFill>
          <p:spPr>
            <a:xfrm>
              <a:off x="7600320" y="6840"/>
              <a:ext cx="78516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8064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YÖK, YÖDEK, ADEK, Stratejik Planlama ve Kalite Güvencesi,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Türkiye Yükseköğretim Yeterlilikler Çerçevesi (TYYÇ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TYYÇ Yeterlilik Profiller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</a:rPr>
              <a:t>TYYÇ’ de Seviye, Süre, İş Yükü ve AKT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</a:rPr>
              <a:t>TYYÇ’ de Seviyeler ve Her Bir Seviyede Farklı Öğrenme Çıktıları Olan Yeterlilikler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70c0"/>
                </a:solidFill>
                <a:latin typeface="Arial"/>
                <a:ea typeface="Arial"/>
              </a:rPr>
              <a:t>Yükseköğretim Yeterliliklerindeki Gelişmeler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F29-8DB9-40BE-8A2B-AFBDA19B23C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  <a:ea typeface="Arial"/>
              </a:rPr>
              <a:t>Sunum İçeriği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42D9-9381-40B9-BD25-A30E648EDA7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Dikdörtgen 8"/>
          <p:cNvSpPr/>
          <p:nvPr/>
        </p:nvSpPr>
        <p:spPr>
          <a:xfrm>
            <a:off x="468360" y="260280"/>
            <a:ext cx="828504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ükseköğretim Kurumlarında Akademik Değerlendirme ve Kalite Geliştirm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</a:rPr>
              <a:t>Yükseköğretim Kurumlarında Akademik Değerlendirme ve Kalite Geliştirme Yönetmeliğ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”, YÖDEK Komisyonu, ADEK Kurulları, 2005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</a:rPr>
              <a:t>Yükseköğretim Kurumlarında Akademik Değerlendirme ve Kalite Geliştirme Rehber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</a:rPr>
              <a:t>”: Stratejik Plan, Kurumsal Değerlendirme, Performans Göstergeleri, İç-Dış Değerlendirme, Periyodik İzleme ve İyileştirme, 2007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b0f0"/>
                </a:solidFill>
                <a:latin typeface="Arial"/>
              </a:rPr>
              <a:t>Not: Standart ve ilkelerin hazırlanması, izlenmesi ve değerlendirilmesinde hizmet alan dış paydaşların katılımı, izlemesi, etkisi ve katkısı yoktur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F01D-C36C-4644-8FDF-447AA3C6C41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Dikdörtgen 8"/>
          <p:cNvSpPr/>
          <p:nvPr/>
        </p:nvSpPr>
        <p:spPr>
          <a:xfrm>
            <a:off x="468360" y="260280"/>
            <a:ext cx="828504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70c0"/>
                </a:solidFill>
                <a:latin typeface="Arial"/>
              </a:rPr>
              <a:t>Türkiye Yükseköğretim Yeterlilikler Çerçevesi (TYYÇ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AYÇ 5., 6., 7., 8.Seviyeleri </a:t>
            </a: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Süre</a:t>
            </a: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c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Nisan 2006-2008</a:t>
            </a:r>
            <a:r>
              <a:rPr b="1" i="1" lang="tr-TR" sz="2400" spc="-1" strike="noStrike" baseline="30000">
                <a:solidFill>
                  <a:srgbClr val="0070c0"/>
                </a:solidFill>
                <a:latin typeface="Arial"/>
                <a:ea typeface="MS PGothic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TYYÇ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’nin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 tasarım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 (bilgi-beceri-yetkinlik)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Kasım 2008</a:t>
            </a:r>
            <a:r>
              <a:rPr b="1" i="1" lang="tr-TR" sz="2400" spc="-1" strike="noStrike" baseline="30000">
                <a:solidFill>
                  <a:srgbClr val="0070c0"/>
                </a:solidFill>
                <a:latin typeface="Arial"/>
                <a:ea typeface="MS PGothic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P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aydaşlar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dan yazılı onay alma, Şubat 2009 ve 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YÖK’ün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 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seviye tanımlayıcılarını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onay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ı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Ocak 2010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Öğrenme Çıktılar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nın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yükseköğretim programları</a:t>
            </a:r>
            <a:r>
              <a:rPr b="0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na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MS PGothic"/>
              </a:rPr>
              <a:t>uygulanması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Pilot : Aralık 2010, Tüm kurumlarda: Aralık 2012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Temel Alan Yeterlikler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22 Adet (ISCED Temel Alan Kodlu), Ocak 2011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20000"/>
              </a:lnSpc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b0f0"/>
                </a:solidFill>
                <a:latin typeface="Arial"/>
                <a:ea typeface="MS PGothic"/>
              </a:rPr>
              <a:t>UYÇ Hazırlık Komisyonu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 Çalışmalarına Katılım ve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Yeterl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li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klerin 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UYÇ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’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y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e d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â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hil edilmesi</a:t>
            </a:r>
            <a:r>
              <a:rPr b="0" i="1" lang="tr-TR" sz="2400" spc="-1" strike="noStrike">
                <a:solidFill>
                  <a:srgbClr val="0070c0"/>
                </a:solidFill>
                <a:latin typeface="Arial"/>
                <a:ea typeface="MS PGothic"/>
              </a:rPr>
              <a:t>, Ağustos 2010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2060"/>
                </a:solidFill>
                <a:latin typeface="Arial"/>
              </a:rPr>
              <a:t>(1) «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Towards a European Qualifications Framework for Lifelong Learning, Commission Staff Working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Document,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Commission of The European Communities, SEC(2005) 957, Brussels, 8.7.2005» 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2060"/>
                </a:solidFill>
                <a:latin typeface="Arial"/>
              </a:rPr>
              <a:t>(2)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«The European Qualifications Framework  for Lifelong Learning (EQF).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Luxembourg: Office for Official 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ublications of the European Communities</a:t>
            </a:r>
            <a:r>
              <a:rPr b="0" lang="tr-TR" sz="1200" spc="-1" strike="noStrike">
                <a:solidFill>
                  <a:srgbClr val="002060"/>
                </a:solidFill>
                <a:latin typeface="Arial"/>
              </a:rPr>
              <a:t>. 23.04.2008»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27CC-F10C-49C5-8955-FC4C09FA712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Başlık 1"/>
          <p:cNvSpPr/>
          <p:nvPr/>
        </p:nvSpPr>
        <p:spPr>
          <a:xfrm>
            <a:off x="403200" y="387360"/>
            <a:ext cx="8285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06" name="Grup 2"/>
          <p:cNvGrpSpPr/>
          <p:nvPr/>
        </p:nvGrpSpPr>
        <p:grpSpPr>
          <a:xfrm>
            <a:off x="403200" y="0"/>
            <a:ext cx="8740800" cy="6398280"/>
            <a:chOff x="403200" y="0"/>
            <a:chExt cx="8740800" cy="6398280"/>
          </a:xfrm>
        </p:grpSpPr>
        <p:pic>
          <p:nvPicPr>
            <p:cNvPr id="107" name="Picture 0" descr="TYYÇ TABLO SON.jpg"/>
            <p:cNvPicPr/>
            <p:nvPr/>
          </p:nvPicPr>
          <p:blipFill>
            <a:blip r:embed="rId1"/>
            <a:stretch/>
          </p:blipFill>
          <p:spPr>
            <a:xfrm>
              <a:off x="1236960" y="0"/>
              <a:ext cx="6617160" cy="50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Dikdörtgen 1"/>
            <p:cNvSpPr/>
            <p:nvPr/>
          </p:nvSpPr>
          <p:spPr>
            <a:xfrm>
              <a:off x="403200" y="4797720"/>
              <a:ext cx="874080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100" spc="-1" strike="noStrike">
                  <a:solidFill>
                    <a:srgbClr val="0070c0"/>
                  </a:solidFill>
                  <a:latin typeface="Arial"/>
                </a:rPr>
                <a:t>Dip Notlar</a:t>
              </a:r>
              <a:endParaRPr b="0" lang="en-US" sz="11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1. Lisans programları içerisinde veya lisans programları ile ilişkilendirilmiş bilgi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2. Lisans programları içerisinde veya lisans programları ile ilişkilendirilmiş uygulama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3. Meslek yüksekokulları uygulama ağırlıklı önlisans eğitim ve öğretim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4. Bilgi ağırlıklı 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5. Uygulama ağırlıklı 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6. Bilgi ağırlıklı tezli veya tezsiz yüksek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7. Uygulama ağırlıklı tezli veya tezsiz yükseklisans programları</a:t>
              </a:r>
              <a:br>
                <a:rPr sz="1100"/>
              </a:br>
              <a:r>
                <a:rPr b="0" lang="tr-TR" sz="1100" spc="-1" strike="noStrike">
                  <a:solidFill>
                    <a:srgbClr val="0070c0"/>
                  </a:solidFill>
                  <a:latin typeface="Arial"/>
                </a:rPr>
                <a:t>8. Doktora programları</a:t>
              </a:r>
              <a:endParaRPr b="0" lang="en-US" sz="11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A00-E205-4F76-A3D7-FF70027A512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2 Başlık"/>
          <p:cNvSpPr/>
          <p:nvPr/>
        </p:nvSpPr>
        <p:spPr>
          <a:xfrm>
            <a:off x="228600" y="57240"/>
            <a:ext cx="8458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1" name="Grup 6"/>
          <p:cNvGrpSpPr/>
          <p:nvPr/>
        </p:nvGrpSpPr>
        <p:grpSpPr>
          <a:xfrm>
            <a:off x="569880" y="831960"/>
            <a:ext cx="7827840" cy="5282640"/>
            <a:chOff x="569880" y="831960"/>
            <a:chExt cx="7827840" cy="5282640"/>
          </a:xfrm>
        </p:grpSpPr>
        <p:grpSp>
          <p:nvGrpSpPr>
            <p:cNvPr id="112" name="Grup 49"/>
            <p:cNvGrpSpPr/>
            <p:nvPr/>
          </p:nvGrpSpPr>
          <p:grpSpPr>
            <a:xfrm>
              <a:off x="569880" y="831960"/>
              <a:ext cx="7827840" cy="5282640"/>
              <a:chOff x="569880" y="831960"/>
              <a:chExt cx="7827840" cy="5282640"/>
            </a:xfrm>
          </p:grpSpPr>
          <p:sp>
            <p:nvSpPr>
              <p:cNvPr id="113" name="AutoShape 7"/>
              <p:cNvSpPr/>
              <p:nvPr/>
            </p:nvSpPr>
            <p:spPr>
              <a:xfrm flipH="1">
                <a:off x="1437120" y="558180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 flipH="1">
                <a:off x="1437120" y="508104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 flipH="1">
                <a:off x="1437120" y="4561920"/>
                <a:ext cx="527760" cy="48168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 flipH="1">
                <a:off x="1437120" y="3985920"/>
                <a:ext cx="527760" cy="479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 flipH="1">
                <a:off x="1437120" y="3281760"/>
                <a:ext cx="527760" cy="4269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 flipH="1">
                <a:off x="1437120" y="2800440"/>
                <a:ext cx="527760" cy="4305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 flipH="1">
                <a:off x="1437120" y="2319120"/>
                <a:ext cx="527760" cy="4323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 flipH="1">
                <a:off x="1437120" y="1837440"/>
                <a:ext cx="527760" cy="43236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1" name="AutoShape 20"/>
              <p:cNvSpPr/>
              <p:nvPr/>
            </p:nvSpPr>
            <p:spPr>
              <a:xfrm flipH="1">
                <a:off x="2074320" y="3312360"/>
                <a:ext cx="1022040" cy="3967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Ön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2" name="AutoShape 21"/>
              <p:cNvSpPr/>
              <p:nvPr/>
            </p:nvSpPr>
            <p:spPr>
              <a:xfrm flipH="1">
                <a:off x="2074320" y="2831040"/>
                <a:ext cx="1022040" cy="398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 flipH="1">
                <a:off x="2074320" y="2350080"/>
                <a:ext cx="102204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YLisans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4" name="AutoShape 23"/>
              <p:cNvSpPr/>
              <p:nvPr/>
            </p:nvSpPr>
            <p:spPr>
              <a:xfrm flipH="1">
                <a:off x="2074320" y="1868400"/>
                <a:ext cx="102204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oktora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5" name="AutoShape 16"/>
              <p:cNvSpPr/>
              <p:nvPr/>
            </p:nvSpPr>
            <p:spPr>
              <a:xfrm flipH="1">
                <a:off x="6568560" y="3354120"/>
                <a:ext cx="126648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6" name="AutoShape 16"/>
              <p:cNvSpPr/>
              <p:nvPr/>
            </p:nvSpPr>
            <p:spPr>
              <a:xfrm flipH="1">
                <a:off x="6566760" y="2874600"/>
                <a:ext cx="126792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4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7" name="AutoShape 16"/>
              <p:cNvSpPr/>
              <p:nvPr/>
            </p:nvSpPr>
            <p:spPr>
              <a:xfrm flipH="1">
                <a:off x="6569280" y="2394720"/>
                <a:ext cx="1267920" cy="4003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90-12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8" name="AutoShape 16"/>
              <p:cNvSpPr/>
              <p:nvPr/>
            </p:nvSpPr>
            <p:spPr>
              <a:xfrm flipH="1">
                <a:off x="6566760" y="1869480"/>
                <a:ext cx="1267920" cy="398520"/>
              </a:xfrm>
              <a:prstGeom prst="roundRect">
                <a:avLst>
                  <a:gd name="adj" fmla="val 50000"/>
                </a:avLst>
              </a:prstGeom>
              <a:solidFill>
                <a:srgbClr val="2f5897"/>
              </a:solidFill>
              <a:ln w="9360">
                <a:solidFill>
                  <a:srgbClr val="e4e9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80-240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>
                <a:off x="569880" y="3872160"/>
                <a:ext cx="7827840" cy="0"/>
              </a:xfrm>
              <a:prstGeom prst="line">
                <a:avLst/>
              </a:prstGeom>
              <a:ln w="572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0" name="AutoShape 27"/>
              <p:cNvSpPr/>
              <p:nvPr/>
            </p:nvSpPr>
            <p:spPr>
              <a:xfrm rot="16200000">
                <a:off x="31320" y="2359800"/>
                <a:ext cx="1920240" cy="843120"/>
              </a:xfrm>
              <a:prstGeom prst="flowChartAlternateProcess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Yükseköğretim 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üzey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1" name="AutoShape 28"/>
              <p:cNvSpPr/>
              <p:nvPr/>
            </p:nvSpPr>
            <p:spPr>
              <a:xfrm rot="16200000">
                <a:off x="-88560" y="4612680"/>
                <a:ext cx="2160360" cy="843120"/>
              </a:xfrm>
              <a:prstGeom prst="flowChartAlternateProcess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İlk Ve Orta Öğretim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</a:t>
                </a:r>
                <a:r>
                  <a:rPr b="1" lang="tr-TR" sz="16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Düzeyleri 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2" name="Yuvarlatılmış Dikdörtgen 1"/>
              <p:cNvSpPr/>
              <p:nvPr/>
            </p:nvSpPr>
            <p:spPr>
              <a:xfrm>
                <a:off x="615600" y="831960"/>
                <a:ext cx="123660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AYÇ-HBÖ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Seviye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3" name="Yuvarlatılmış Dikdörtgen 47"/>
              <p:cNvSpPr/>
              <p:nvPr/>
            </p:nvSpPr>
            <p:spPr>
              <a:xfrm>
                <a:off x="1995480" y="831960"/>
                <a:ext cx="128088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TYYÇ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Seviyeleri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34" name="Yuvarlatılmış Dikdörtgen 48"/>
              <p:cNvSpPr/>
              <p:nvPr/>
            </p:nvSpPr>
            <p:spPr>
              <a:xfrm>
                <a:off x="6553080" y="853920"/>
                <a:ext cx="1265040" cy="90792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28440">
                <a:solidFill>
                  <a:srgbClr val="4455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1600" spc="-1" strike="noStrike">
                    <a:solidFill>
                      <a:srgbClr val="d9d9d9"/>
                    </a:solidFill>
                    <a:latin typeface="Arial"/>
                    <a:ea typeface="MS PGothic"/>
                  </a:rPr>
                  <a:t>AKTS Krediler</a:t>
                </a:r>
                <a:endParaRPr b="0" lang="en-US" sz="16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</p:grpSp>
        <p:sp>
          <p:nvSpPr>
            <p:cNvPr id="135" name="Yuvarlatılmış Dikdörtgen 34"/>
            <p:cNvSpPr/>
            <p:nvPr/>
          </p:nvSpPr>
          <p:spPr>
            <a:xfrm>
              <a:off x="3335040" y="831960"/>
              <a:ext cx="1150920" cy="9079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8440">
              <a:solidFill>
                <a:srgbClr val="445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Süre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(Yıl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 flipH="1">
              <a:off x="3372840" y="3285360"/>
              <a:ext cx="1022040" cy="3967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7" name="AutoShape 21"/>
            <p:cNvSpPr/>
            <p:nvPr/>
          </p:nvSpPr>
          <p:spPr>
            <a:xfrm flipH="1">
              <a:off x="3372840" y="2804040"/>
              <a:ext cx="1022040" cy="3985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,5 - 4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8" name="AutoShape 22"/>
            <p:cNvSpPr/>
            <p:nvPr/>
          </p:nvSpPr>
          <p:spPr>
            <a:xfrm flipH="1">
              <a:off x="3372840" y="2323080"/>
              <a:ext cx="102204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,5 - 2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 flipH="1">
              <a:off x="3372840" y="1841400"/>
              <a:ext cx="102204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 - 4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0" name="Yuvarlatılmış Dikdörtgen 40"/>
            <p:cNvSpPr/>
            <p:nvPr/>
          </p:nvSpPr>
          <p:spPr>
            <a:xfrm>
              <a:off x="4605120" y="853920"/>
              <a:ext cx="1838160" cy="9079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8440">
              <a:solidFill>
                <a:srgbClr val="445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İş Yükü (Saat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(1 AKTS</a:t>
              </a:r>
              <a:r>
                <a:rPr b="1" lang="tr-TR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 </a:t>
              </a:r>
              <a:r>
                <a:rPr b="1" lang="fi-FI" sz="1600" spc="-1" strike="noStrike">
                  <a:solidFill>
                    <a:srgbClr val="d9d9d9"/>
                  </a:solidFill>
                  <a:latin typeface="Arial"/>
                  <a:ea typeface="MS PGothic"/>
                </a:rPr>
                <a:t>= 25 - 30 saat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 flipH="1">
              <a:off x="4623120" y="3323520"/>
              <a:ext cx="182052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.000 - 3.6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2" name="AutoShape 16"/>
            <p:cNvSpPr/>
            <p:nvPr/>
          </p:nvSpPr>
          <p:spPr>
            <a:xfrm flipH="1">
              <a:off x="4624920" y="2881440"/>
              <a:ext cx="1822320" cy="400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.000 – 7.2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3" name="AutoShape 16"/>
            <p:cNvSpPr/>
            <p:nvPr/>
          </p:nvSpPr>
          <p:spPr>
            <a:xfrm flipH="1">
              <a:off x="4624200" y="2364120"/>
              <a:ext cx="1822320" cy="4795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.250 – 2.7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.000 – 3.6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4" name="AutoShape 16"/>
            <p:cNvSpPr/>
            <p:nvPr/>
          </p:nvSpPr>
          <p:spPr>
            <a:xfrm flipH="1">
              <a:off x="4622040" y="1841400"/>
              <a:ext cx="1822320" cy="481320"/>
            </a:xfrm>
            <a:prstGeom prst="roundRect">
              <a:avLst>
                <a:gd name="adj" fmla="val 50000"/>
              </a:avLst>
            </a:prstGeom>
            <a:solidFill>
              <a:srgbClr val="2f5897"/>
            </a:solidFill>
            <a:ln w="9360">
              <a:solidFill>
                <a:srgbClr val="e4e9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.500 – 5.4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000 – 7.200</a:t>
              </a:r>
              <a:endParaRPr b="0" lang="en-US" sz="15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45" name="Dikdörtgen 2"/>
            <p:cNvSpPr/>
            <p:nvPr/>
          </p:nvSpPr>
          <p:spPr>
            <a:xfrm>
              <a:off x="2699640" y="4003920"/>
              <a:ext cx="51350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r-TR" sz="1600" spc="-1" strike="noStrike">
                  <a:solidFill>
                    <a:srgbClr val="0070c0"/>
                  </a:solidFill>
                  <a:latin typeface="Arial"/>
                </a:rPr>
                <a:t>TYYÇ Tasarım Aşamaları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Seviyeler (levels, cycle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Profiller (profiles) ve Verilen Dereceler (award type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Seviye tanımlayıcıları (EQF-LLL descriptors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Krediler ve Çalışma Yükü (Credits and workload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tr-TR" sz="1600" spc="-1" strike="noStrike">
                  <a:solidFill>
                    <a:srgbClr val="0070c0"/>
                  </a:solidFill>
                  <a:latin typeface="Arial"/>
                </a:rPr>
                <a:t>Kalite Güvencesi (Quality Assurance)</a:t>
              </a:r>
              <a:endParaRPr b="0" lang="en-US" sz="16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146" name="Dikdörtgen 2"/>
          <p:cNvSpPr/>
          <p:nvPr/>
        </p:nvSpPr>
        <p:spPr>
          <a:xfrm>
            <a:off x="626760" y="160200"/>
            <a:ext cx="72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TYYÇ’de Seviye, Süre, İş Yükü ve AK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0CB-88DB-46E7-9E97-6A966F08BE4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125360"/>
          <a:ext cx="7921440" cy="5043600"/>
        </p:xfrm>
        <a:graphic>
          <a:graphicData uri="http://schemas.openxmlformats.org/drawingml/2006/table">
            <a:tbl>
              <a:tblPr/>
              <a:tblGrid>
                <a:gridCol w="2592360"/>
                <a:gridCol w="1584360"/>
                <a:gridCol w="1008000"/>
                <a:gridCol w="1008000"/>
                <a:gridCol w="1728720"/>
              </a:tblGrid>
              <a:tr h="92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Yükseköğretim Seviyel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6076b4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Verilen Yeterlilikler ve Derece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k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8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3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k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ıpta Uzmanlı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natta Yeterlil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92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7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2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ezli 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ezsiz Yüksek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6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1.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Fakülte Program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Yüksekokul ve Konservatuar Program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d2d6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YÇ-HBÖ 5.Seviy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QF-EHEA  Kısa Seviy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Fakülte Lisans Programları İçerisind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Ön lis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Meslek Yüksek Okullar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2060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ae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1 Başlık"/>
          <p:cNvSpPr/>
          <p:nvPr/>
        </p:nvSpPr>
        <p:spPr>
          <a:xfrm>
            <a:off x="45720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TYYÇ’de Seviyeler ve Her Bir Seviyede Farklı Öğrenme Çıktıları Olan Yeterlilikle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  <a:ea typeface="Arial"/>
              </a:rPr>
              <a:t>Yükseköğretim Yeterliliklerindeki Gelişmel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8 seviyeli yapı; ortak referans noktaları (Öğrenme Çıktılarına / Yetkinliklere dayalı yaklaşım / Bologna Süreci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Araç ve gereç desteği (AKTS, Europass aracı, 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Öğrenme Fırsatları Ploteus Portal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Paydaşlarla İşbirliği ve İlke ve Prosedürler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Kalite Güvencesinde katılımın sağlanması, Rehberlik ve Danışmanlık hizmetleri, Anahtar Yetkinliklerin geliştiril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Örgün Eğitime dayalı Yaygın ve İnformal Öğrenmenin geçerliliği, tanınması ve teşviki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mevcutlar daha ziyade örgün eğitime göre tanımlanmıştır; yaygın ve informal öğrenmenin geçerliliğ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Önceki Öğrenmenin Tanınması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Çalışmaların hızlandırılması; bireylerin rehber ve danışmanlar aracılığı hazırlanması ve gelişim dosyalarının hazırlanması konusundaki standart ve ilkelerin belirlen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UYÇ Hazırlık Komisyonu Çalışmaları (</a:t>
            </a:r>
            <a:r>
              <a:rPr b="0" i="1" lang="tr-TR" sz="1800" spc="-1" strike="noStrike">
                <a:solidFill>
                  <a:srgbClr val="00b0f0"/>
                </a:solidFill>
                <a:latin typeface="Arial"/>
                <a:ea typeface="Arial"/>
              </a:rPr>
              <a:t>UYÇ kapsamında Kalite Güvencesinin MYK Kanununun 23a maddesi çerçevesinde yürütülmesi</a:t>
            </a:r>
            <a:r>
              <a:rPr b="0" lang="tr-TR" sz="1800" spc="-1" strike="noStrike">
                <a:solidFill>
                  <a:srgbClr val="0070c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58920" indent="-35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E50-114E-4571-A53F-06325855D95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76720" y="3213000"/>
            <a:ext cx="2735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f0"/>
                </a:solidFill>
                <a:latin typeface="Arial"/>
                <a:ea typeface="Arial"/>
              </a:rPr>
              <a:t>Teşekkürler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Slayt Numarası Yer Tutucusu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C177-10A3-4672-BFBB-60FAFF11AC6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0:03:43Z</dcterms:created>
  <dc:creator>Oguz Borat</dc:creator>
  <dc:description/>
  <dc:language>en-US</dc:language>
  <cp:lastModifiedBy>.</cp:lastModifiedBy>
  <dcterms:modified xsi:type="dcterms:W3CDTF">2011-11-21T06:33:51Z</dcterms:modified>
  <cp:revision>95</cp:revision>
  <dc:subject/>
  <dc:title>PowerPoint Sunusu</dc:title>
</cp:coreProperties>
</file>