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98D-F35A-48F8-9DB1-74B266ED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B3A-492E-4161-ACB8-F0246896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91D-2A80-40CF-921F-79A164C3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D00-960F-4E2E-A578-DAB7A8A6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BA2-4C1E-42B6-BD69-F6A9F40A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731-3370-470B-83E2-4EA974CD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60A-E645-4E1F-9978-449D0C75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01A-5604-4C92-9D47-C37BB06F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4A5-E721-4461-9829-42EC3E9D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D29-35C3-4EC2-8635-F2B7BEF4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FA8-F9BD-47BB-A5AF-5E0D02FA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22E-A985-409A-87F8-E3C47A0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3FBC-F135-4ACA-8AE8-E466AF7701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tf.europa.eu/web.nsf/pages/qualification_frameworks" TargetMode="External"/><Relationship Id="rId3" Type="http://schemas.openxmlformats.org/officeDocument/2006/relationships/hyperlink" Target="mailto:qualifications.platform@etf.europa.eu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 Diagonal Corner Rectangle 4"/>
          <p:cNvSpPr/>
          <p:nvPr/>
        </p:nvSpPr>
        <p:spPr>
          <a:xfrm>
            <a:off x="395280" y="1844640"/>
            <a:ext cx="8280360" cy="4643640"/>
          </a:xfrm>
          <a:custGeom>
            <a:avLst/>
            <a:gdLst>
              <a:gd name="textAreaLeft" fmla="*/ 47160 w 8280360"/>
              <a:gd name="textAreaRight" fmla="*/ 8233200 w 8280360"/>
              <a:gd name="textAreaTop" fmla="*/ 47160 h 4643640"/>
              <a:gd name="textAreaBottom" fmla="*/ 4596480 h 4643640"/>
            </a:gdLst>
            <a:ahLst/>
            <a:rect l="textAreaLeft" t="textAreaTop" r="textAreaRight" b="textAreaBottom"/>
            <a:pathLst>
              <a:path w="8280400" h="4643438">
                <a:moveTo>
                  <a:pt x="0" y="0"/>
                </a:moveTo>
                <a:lnTo>
                  <a:pt x="8118251" y="0"/>
                </a:lnTo>
                <a:lnTo>
                  <a:pt x="8118251" y="0"/>
                </a:lnTo>
                <a:arcTo wR="162149" hR="162149" stAng="-5400000" swAng="5400000"/>
                <a:lnTo>
                  <a:pt x="8280400" y="4643438"/>
                </a:lnTo>
                <a:lnTo>
                  <a:pt x="162149" y="4643438"/>
                </a:lnTo>
                <a:lnTo>
                  <a:pt x="162149" y="4643438"/>
                </a:lnTo>
                <a:arcTo wR="162149" hR="162149" stAng="5400000" swAng="5400000"/>
                <a:lnTo>
                  <a:pt x="0" y="0"/>
                </a:lnTo>
                <a:close/>
              </a:path>
            </a:pathLst>
          </a:custGeom>
          <a:solidFill>
            <a:srgbClr val="009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0872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cc"/>
                </a:solidFill>
                <a:latin typeface="Calibri"/>
              </a:rPr>
              <a:t>Introduction to the seminar:</a:t>
            </a:r>
            <a:br>
              <a:rPr sz="4000"/>
            </a:br>
            <a:r>
              <a:rPr b="1" i="1" lang="en-GB" sz="4000" spc="-1" strike="noStrike">
                <a:solidFill>
                  <a:srgbClr val="ffffcc"/>
                </a:solidFill>
                <a:latin typeface="Calibri"/>
              </a:rPr>
              <a:t> Scenario development for the TURKISH QUALIFICATIONS FRAMEWORK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e6f9fe"/>
                </a:solidFill>
                <a:latin typeface="Calibri"/>
              </a:rPr>
              <a:t>Antalya, 22-23 November 2011</a:t>
            </a:r>
            <a:br>
              <a:rPr sz="1600"/>
            </a:br>
            <a:r>
              <a:rPr b="1" lang="nl-NL" sz="3200" spc="-1" strike="noStrike">
                <a:solidFill>
                  <a:srgbClr val="e6f9fe"/>
                </a:solidFill>
                <a:latin typeface="Arial"/>
                <a:ea typeface="Arial"/>
              </a:rPr>
              <a:t>Tom Leney</a:t>
            </a:r>
            <a:br>
              <a:rPr sz="3200"/>
            </a:br>
            <a:r>
              <a:rPr b="1" lang="nl-NL" sz="2000" spc="-1" strike="noStrike">
                <a:solidFill>
                  <a:srgbClr val="e6f9fe"/>
                </a:solidFill>
                <a:latin typeface="Arial"/>
                <a:ea typeface="Arial"/>
              </a:rPr>
              <a:t>TomLeney@btinterne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ETF MASTER LOGO.jpg"/>
          <p:cNvPicPr/>
          <p:nvPr/>
        </p:nvPicPr>
        <p:blipFill>
          <a:blip r:embed="rId1"/>
          <a:stretch/>
        </p:blipFill>
        <p:spPr>
          <a:xfrm>
            <a:off x="642960" y="428760"/>
            <a:ext cx="271476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ing Task 2: Linking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71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250920" y="1557360"/>
          <a:ext cx="8640720" cy="530064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 common with other sub-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ked to other sub-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-system spe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lifications development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on and 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, certification, Q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ing and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opportunities and challe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ing Task 3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QF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How we tackle the TQF implementation issues/ options depends on the seminar ‘outcomes so far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epare slide  in Antal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ETF MASTER LOGO.jpg"/>
          <p:cNvPicPr/>
          <p:nvPr/>
        </p:nvPicPr>
        <p:blipFill>
          <a:blip r:embed="rId1"/>
          <a:stretch/>
        </p:blipFill>
        <p:spPr>
          <a:xfrm>
            <a:off x="571680" y="428760"/>
            <a:ext cx="2714400" cy="1187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3"/>
          <p:cNvSpPr/>
          <p:nvPr/>
        </p:nvSpPr>
        <p:spPr>
          <a:xfrm>
            <a:off x="468360" y="1413000"/>
            <a:ext cx="810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2bb"/>
                </a:solidFill>
                <a:latin typeface="Arial"/>
                <a:ea typeface="Arial"/>
              </a:rPr>
              <a:t>FOR FURTHER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500040" y="2643120"/>
            <a:ext cx="810252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55560"/>
                </a:solidFill>
                <a:latin typeface="Arial"/>
                <a:ea typeface="Arial"/>
              </a:rPr>
              <a:t>Visit our website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etf.europa.eu/web.nsf/pages/qualification_frame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55560"/>
                </a:solidFill>
                <a:latin typeface="Arial"/>
                <a:ea typeface="Arial"/>
              </a:rPr>
              <a:t>Join the Qualifications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55560"/>
                </a:solidFill>
                <a:latin typeface="Arial"/>
                <a:ea typeface="Arial"/>
              </a:rPr>
              <a:t>Email:</a:t>
            </a:r>
            <a:br>
              <a:rPr sz="2400"/>
            </a:b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qualifications.platform@etf.europa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war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welco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an the seminar achie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rocess -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ome careful thinking about the implementation of TQ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Collaborative effort –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engaging  VQA (MYK), MoNE, higher education (YÖK and universities), the VOC-TEST Centres (authorised certification bodies) including social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nalysis –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f factors impacting on the implementation of TQ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roduct –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 synthesis of our results for policy makers’ seminar. Possible implementation scenarios for TQ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e roles of the TQ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ugg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eveloping qualifications in a lifelong learning context (formal </a:t>
            </a:r>
            <a:r>
              <a:rPr b="1" lang="en-GB" sz="2800" spc="-1" strike="noStrike" u="sng">
                <a:solidFill>
                  <a:srgbClr val="1f497d"/>
                </a:solidFill>
                <a:uFillTx/>
                <a:latin typeface="Calibri"/>
              </a:rPr>
              <a:t>and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 inform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Co-ordinating and communicating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ing a framework so that it adds value for the stakeholders and for individuals who will receive quality assured relevant qual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rovements in curricula, programmes, teaching and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ping st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6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55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  <p:pic>
        <p:nvPicPr>
          <p:cNvPr id="56" name="Diagram 5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108480" cy="499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shall we work togeth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ome ground rules for an open approach to the worksho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We’ll report the outcomes, but not what anyone has said specif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lease speak frankly, to contribute your experience and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Expect to understand more clearly the hopes and concerns of the other participant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tart from the basis that ‘Professionals who are engaged in developing qualifications know what they are doing’ </a:t>
            </a:r>
            <a:r>
              <a:rPr b="1" lang="en-GB" sz="1400" spc="-1" strike="noStrike">
                <a:solidFill>
                  <a:srgbClr val="1f497d"/>
                </a:solidFill>
                <a:latin typeface="Calibri"/>
              </a:rPr>
              <a:t>(quote from Nordic Council of Minister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oles:  What we can achieve depends on your insight and collaborative work. </a:t>
            </a: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I will do my best to facilitate. EU colleagues – mainly listening and learning, trying to underst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oser look at the 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Day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Morning: The focus is on issues in evolving sub-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fternoon: Working groups identify common issues, and issues particular to the sub-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Morning: The TQF introduced, and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fternoon: Towards TQF implementation models Options/tasks/challenges: a ‘loose’ model, a ‘tight’ one, a model of choi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olicy makers  listen to the results, discuss and consider follow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we develop a product to hand 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 report  for the policy ma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n PowerPoin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Some opportunities/issues in TQF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May be built around 3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Could be A ‘loose’ TQF; a ‘tight’ TQF; a TQF of ch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Have you questions for clarification or discussio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fter this, we can hear/discuss the key developments and issues for qualifications in the sectors of education and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TF MASTER LOGO.jpg"/>
          <p:cNvPicPr/>
          <p:nvPr/>
        </p:nvPicPr>
        <p:blipFill>
          <a:blip r:embed="rId1"/>
          <a:stretch/>
        </p:blipFill>
        <p:spPr>
          <a:xfrm>
            <a:off x="250920" y="189000"/>
            <a:ext cx="2714400" cy="118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0:48:46Z</dcterms:created>
  <dc:creator>Joanna Anstey</dc:creator>
  <dc:description/>
  <dc:language>en-US</dc:language>
  <cp:lastModifiedBy>Tom Leney</cp:lastModifiedBy>
  <dcterms:modified xsi:type="dcterms:W3CDTF">2011-11-15T15:41:29Z</dcterms:modified>
  <cp:revision>104</cp:revision>
  <dc:subject/>
  <dc:title>HEADING DATE</dc:title>
</cp:coreProperties>
</file>